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D7F-DB5B-4D9D-970E-FAC5B2D3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6A5-9BA8-4625-B3A9-832B08CE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D87D-1A13-4B65-8480-F2CB22AC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EB0-CBD6-44C2-BFC4-739085D6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F57-793F-4EA2-987B-D6B5A4A5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599-96E7-4418-BBD9-42F763AB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BD4-D49B-43B3-92A7-3F02C7A8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B2F4-C6C6-4DC5-8786-1B0DFD53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D4C-1FEF-415A-A996-2D119E90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A92B-D287-4F0B-9AE9-35C68D32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845-B6ED-445D-AD01-967B8B66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F2E-6753-4235-9806-82DA34C6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2C0C-3649-47C9-B95F-92417806D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bible-history.com/maps/maps/mesopotamia_tra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2:25:47Z</dcterms:created>
  <dc:creator>Tammy M. Johnston</dc:creator>
  <dc:description/>
  <dc:language>en-US</dc:language>
  <cp:lastModifiedBy>Tammy M. Johnston</cp:lastModifiedBy>
  <dcterms:modified xsi:type="dcterms:W3CDTF">2009-01-11T22:39:42Z</dcterms:modified>
  <cp:revision>2</cp:revision>
  <dc:subject/>
  <dc:title>Slide 1</dc:title>
</cp:coreProperties>
</file>